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863-2A9D-425F-9602-0E752A41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DEF-8135-4600-9334-C54BEC4D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C9F-B180-4D75-AF56-A5F58261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158-1699-448E-9C0F-2481328B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7BE3-54C5-411C-8EDA-989776DE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3A7E-B8F8-4C0A-9DA2-167AF104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EBC-1E34-4796-8788-CEF3CD9B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ACD8-DFD7-4CA9-BBF9-CC7F0E2F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30EA-7C63-46B7-887F-915995B9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BBB6-44A6-43A9-A704-209E23AA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EA60-574D-4055-81CB-6207F9E3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35A-4CEC-4960-BBB9-67CAA0E8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486-585B-4E13-8CC6-1EAFF000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0C8C-3EAF-4C14-BB66-1CBB357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52F4-9AB8-46B1-B056-3DADB799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F249-D1D5-4EA2-B095-474F8CEB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BF2F-E0CD-4250-A051-D6076FAC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34A-6525-4A4C-AEA7-C740B169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C4C-C604-4705-9F47-36EDAE3F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517-FBC3-4F00-986C-5B408636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E19-268B-4C1F-A72C-D57B2212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DEF-7D15-406D-9C38-92BF24D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9C7-0FD2-4E2A-A650-F03412A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24B-AEAD-4057-89A0-5876533E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B11-20D8-4930-A047-029668728A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9E95-699C-41A6-8384-4E95D2AF31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1.htm" TargetMode="External"/><Relationship Id="rId2" Type="http://schemas.openxmlformats.org/officeDocument/2006/relationships/hyperlink" Target="http://www.csos.jhu.edu/P2000/nnps_model/school/sixtypes/type2.htm" TargetMode="External"/><Relationship Id="rId3" Type="http://schemas.openxmlformats.org/officeDocument/2006/relationships/hyperlink" Target="http://www.csos.jhu.edu/P2000/nnps_model/school/sixtypes/type3.htm" TargetMode="External"/><Relationship Id="rId4" Type="http://schemas.openxmlformats.org/officeDocument/2006/relationships/hyperlink" Target="http://www.csos.jhu.edu/P2000/nnps_model/school/sixtypes/type4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1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3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4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ix Types of Involvement: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eys to Successful Partnerships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3048120"/>
            <a:ext cx="4012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pstein, et. al. 2009.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School, Family, and Community Partnerships: Your Handbook for Action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Third Edition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. Thousand Oaks, CA: Corwin Press, Inc.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x Types of Involvemen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ar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ommunic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Volunt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Learning at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ng with the Community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arent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 families in understanding child and adolescent development and in setting home conditions that support children as students at each grade level. Assist schools in understanding famili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mmunicat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e with families about school programs and student progress through effective school-to-home and home-to-school communic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olunteer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rove recruitment, training and schedules to involve families as volunteers and audiences at the school and in other locations to support students and school progra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earning at Hom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olve families with their children in learning at home, including homework and other curriculum-related activities and individual course and program decis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cision Making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families as participants in school decisions, and develop parent leaders and representativ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ision Ma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families as participants in school decisions, governance and advocacy through the PTA/PTO, school councils, committees, action teams, and other parent organiz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llaborating with the Commun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ordinate community resources and services for students, families, and the school with businesses, agencies and other groups, and provide services to the communit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7:25:25Z</dcterms:created>
  <dc:creator>Thomas DiPaola</dc:creator>
  <dc:description/>
  <dc:language>en-US</dc:language>
  <cp:lastModifiedBy>Thomas DiPaola</cp:lastModifiedBy>
  <dcterms:modified xsi:type="dcterms:W3CDTF">2009-08-27T18:50:19Z</dcterms:modified>
  <cp:revision>3</cp:revision>
  <dc:subject/>
  <dc:title>Six Types of Involvement: Keys to Successful Partnerships </dc:title>
</cp:coreProperties>
</file>